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1B0-5BD5-468F-A631-C4B150A5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CBF-3853-491B-96AA-FD8BD95C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1F7-5E96-4255-A46A-F8544C16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7E6-4672-4617-9C84-6E541B84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642-15E1-4CFB-A521-84694711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DD97-86EB-47F8-9D87-1792BBE3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F32-352E-41E8-8913-6180A3F9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A1A-6C4F-4701-A2B9-A0F051A3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489-511E-4293-9385-B4FC97BF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C2C-CB7E-443A-881C-21A965BB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519-CD9B-4FD6-B1A5-44E4DA37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823-8ED9-4630-9FF3-94C7C96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9829-E9F2-4AEE-B165-C1D65FF523C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  <a:ea typeface="宋体"/>
              </a:rPr>
              <a:t>Guess the Cit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tent Placeholder 3" descr="Dubai 1.jpg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3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44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47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50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53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56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59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62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65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68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71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74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77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80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83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86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89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9"/>
          <p:cNvSpPr/>
          <p:nvPr/>
        </p:nvSpPr>
        <p:spPr>
          <a:xfrm>
            <a:off x="2701440" y="2362320"/>
            <a:ext cx="388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  <a:ea typeface="宋体"/>
              </a:rPr>
              <a:t>Dubai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7" dur="123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88" dur="123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8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0" dur="123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Suzhou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96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99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102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105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108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111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114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117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120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123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126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129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132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135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138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141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9"/>
          <p:cNvSpPr/>
          <p:nvPr/>
        </p:nvSpPr>
        <p:spPr>
          <a:xfrm>
            <a:off x="2278440" y="2362320"/>
            <a:ext cx="473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  <a:ea typeface="宋体"/>
              </a:rPr>
              <a:t>Suzhou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13" dur="123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14" dur="123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1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16" dur="123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Content Placeholder 3" descr="Paris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148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151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154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157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160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163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166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169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172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175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178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181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184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187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190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193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9"/>
          <p:cNvSpPr/>
          <p:nvPr/>
        </p:nvSpPr>
        <p:spPr>
          <a:xfrm>
            <a:off x="2985480" y="2362320"/>
            <a:ext cx="332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cc"/>
                </a:solidFill>
                <a:latin typeface="Comic Sans MS"/>
                <a:ea typeface="宋体"/>
              </a:rPr>
              <a:t>Paris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39" dur="123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40" dur="123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42" dur="123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4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Content Placeholder 3" descr="Moscow 3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0000"/>
          </a:xfrm>
          <a:prstGeom prst="rect">
            <a:avLst/>
          </a:prstGeom>
          <a:ln w="0">
            <a:noFill/>
          </a:ln>
        </p:spPr>
      </p:pic>
      <p:grpSp>
        <p:nvGrpSpPr>
          <p:cNvPr id="199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200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203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206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209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212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215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218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221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224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227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230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233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236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239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242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245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9"/>
          <p:cNvSpPr/>
          <p:nvPr/>
        </p:nvSpPr>
        <p:spPr>
          <a:xfrm>
            <a:off x="2559240" y="2362320"/>
            <a:ext cx="41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  <a:ea typeface="宋体"/>
              </a:rPr>
              <a:t>Russia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8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0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65" dur="123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66" dur="123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6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68" dur="123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6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Content Placeholder 3" descr="New York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252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255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258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261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264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267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270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273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276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Flowchart: Process 10"/>
          <p:cNvGrpSpPr/>
          <p:nvPr/>
        </p:nvGrpSpPr>
        <p:grpSpPr>
          <a:xfrm>
            <a:off x="2050920" y="1628640"/>
            <a:ext cx="2554200" cy="1785960"/>
            <a:chOff x="2050920" y="1628640"/>
            <a:chExt cx="2554200" cy="1785960"/>
          </a:xfrm>
        </p:grpSpPr>
        <p:pic>
          <p:nvPicPr>
            <p:cNvPr id="279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50920" y="162864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111400" y="166212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282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285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288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291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294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297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9"/>
          <p:cNvSpPr/>
          <p:nvPr/>
        </p:nvSpPr>
        <p:spPr>
          <a:xfrm>
            <a:off x="1731960" y="2492280"/>
            <a:ext cx="596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  <a:ea typeface="宋体"/>
              </a:rPr>
              <a:t>New York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3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91" dur="1230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92" dur="123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9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94" dur="123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9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Content Placeholder 3" descr="Shanghai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3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304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307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310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313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316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319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322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325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328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331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334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337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340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343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346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349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9"/>
          <p:cNvSpPr/>
          <p:nvPr/>
        </p:nvSpPr>
        <p:spPr>
          <a:xfrm>
            <a:off x="1717560" y="2362320"/>
            <a:ext cx="58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ffcc"/>
                </a:solidFill>
                <a:latin typeface="Comic Sans MS"/>
                <a:ea typeface="宋体"/>
              </a:rPr>
              <a:t>Shanghai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4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17" dur="1230" fill="hold"/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18" dur="123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20" dur="123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ontent Placeholder 3" descr="London 3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grpSp>
        <p:nvGrpSpPr>
          <p:cNvPr id="355" name="Flowchart: Process 1"/>
          <p:cNvGrpSpPr/>
          <p:nvPr/>
        </p:nvGrpSpPr>
        <p:grpSpPr>
          <a:xfrm>
            <a:off x="6645240" y="-36360"/>
            <a:ext cx="2554200" cy="1785960"/>
            <a:chOff x="6645240" y="-36360"/>
            <a:chExt cx="2554200" cy="1785960"/>
          </a:xfrm>
        </p:grpSpPr>
        <p:pic>
          <p:nvPicPr>
            <p:cNvPr id="356" name="Flowchart: Process 1" descr=""/>
            <p:cNvPicPr/>
            <p:nvPr/>
          </p:nvPicPr>
          <p:blipFill>
            <a:blip r:embed="rId2"/>
            <a:stretch/>
          </p:blipFill>
          <p:spPr>
            <a:xfrm>
              <a:off x="6645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6705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Flowchart: Process 2"/>
          <p:cNvGrpSpPr/>
          <p:nvPr/>
        </p:nvGrpSpPr>
        <p:grpSpPr>
          <a:xfrm>
            <a:off x="6645240" y="1566720"/>
            <a:ext cx="2554200" cy="1785960"/>
            <a:chOff x="6645240" y="1566720"/>
            <a:chExt cx="2554200" cy="1785960"/>
          </a:xfrm>
        </p:grpSpPr>
        <p:pic>
          <p:nvPicPr>
            <p:cNvPr id="359" name="Flowchart: Process 2" descr=""/>
            <p:cNvPicPr/>
            <p:nvPr/>
          </p:nvPicPr>
          <p:blipFill>
            <a:blip r:embed="rId3"/>
            <a:stretch/>
          </p:blipFill>
          <p:spPr>
            <a:xfrm>
              <a:off x="6645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705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Flowchart: Process 3"/>
          <p:cNvGrpSpPr/>
          <p:nvPr/>
        </p:nvGrpSpPr>
        <p:grpSpPr>
          <a:xfrm>
            <a:off x="6645240" y="3243240"/>
            <a:ext cx="2554200" cy="1706760"/>
            <a:chOff x="6645240" y="3243240"/>
            <a:chExt cx="2554200" cy="1706760"/>
          </a:xfrm>
        </p:grpSpPr>
        <p:pic>
          <p:nvPicPr>
            <p:cNvPr id="362" name="Flowchart: Process 3" descr=""/>
            <p:cNvPicPr/>
            <p:nvPr/>
          </p:nvPicPr>
          <p:blipFill>
            <a:blip r:embed="rId4"/>
            <a:stretch/>
          </p:blipFill>
          <p:spPr>
            <a:xfrm>
              <a:off x="6645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6705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Flowchart: Process 4"/>
          <p:cNvGrpSpPr/>
          <p:nvPr/>
        </p:nvGrpSpPr>
        <p:grpSpPr>
          <a:xfrm>
            <a:off x="6645240" y="4840200"/>
            <a:ext cx="2554200" cy="2090880"/>
            <a:chOff x="6645240" y="4840200"/>
            <a:chExt cx="2554200" cy="2090880"/>
          </a:xfrm>
        </p:grpSpPr>
        <p:pic>
          <p:nvPicPr>
            <p:cNvPr id="365" name="Flowchart: Process 4" descr=""/>
            <p:cNvPicPr/>
            <p:nvPr/>
          </p:nvPicPr>
          <p:blipFill>
            <a:blip r:embed="rId5"/>
            <a:stretch/>
          </p:blipFill>
          <p:spPr>
            <a:xfrm>
              <a:off x="6645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705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Flowchart: Process 5"/>
          <p:cNvGrpSpPr/>
          <p:nvPr/>
        </p:nvGrpSpPr>
        <p:grpSpPr>
          <a:xfrm>
            <a:off x="4206960" y="-36360"/>
            <a:ext cx="2554200" cy="1785960"/>
            <a:chOff x="4206960" y="-36360"/>
            <a:chExt cx="2554200" cy="1785960"/>
          </a:xfrm>
        </p:grpSpPr>
        <p:pic>
          <p:nvPicPr>
            <p:cNvPr id="368" name="Flowchart: Process 5" descr=""/>
            <p:cNvPicPr/>
            <p:nvPr/>
          </p:nvPicPr>
          <p:blipFill>
            <a:blip r:embed="rId6"/>
            <a:stretch/>
          </p:blipFill>
          <p:spPr>
            <a:xfrm>
              <a:off x="420696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267080" y="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Flowchart: Process 6"/>
          <p:cNvGrpSpPr/>
          <p:nvPr/>
        </p:nvGrpSpPr>
        <p:grpSpPr>
          <a:xfrm>
            <a:off x="4206960" y="1566720"/>
            <a:ext cx="2554200" cy="1785960"/>
            <a:chOff x="4206960" y="1566720"/>
            <a:chExt cx="2554200" cy="1785960"/>
          </a:xfrm>
        </p:grpSpPr>
        <p:pic>
          <p:nvPicPr>
            <p:cNvPr id="371" name="Flowchart: Process 6" descr=""/>
            <p:cNvPicPr/>
            <p:nvPr/>
          </p:nvPicPr>
          <p:blipFill>
            <a:blip r:embed="rId7"/>
            <a:stretch/>
          </p:blipFill>
          <p:spPr>
            <a:xfrm>
              <a:off x="420696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267080" y="1600200"/>
              <a:ext cx="2438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Flowchart: Process 7"/>
          <p:cNvGrpSpPr/>
          <p:nvPr/>
        </p:nvGrpSpPr>
        <p:grpSpPr>
          <a:xfrm>
            <a:off x="4206960" y="3243240"/>
            <a:ext cx="2554200" cy="1706760"/>
            <a:chOff x="4206960" y="3243240"/>
            <a:chExt cx="2554200" cy="1706760"/>
          </a:xfrm>
        </p:grpSpPr>
        <p:pic>
          <p:nvPicPr>
            <p:cNvPr id="374" name="Flowchart: Process 7" descr=""/>
            <p:cNvPicPr/>
            <p:nvPr/>
          </p:nvPicPr>
          <p:blipFill>
            <a:blip r:embed="rId8"/>
            <a:stretch/>
          </p:blipFill>
          <p:spPr>
            <a:xfrm>
              <a:off x="420696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267080" y="327672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Flowchart: Process 8"/>
          <p:cNvGrpSpPr/>
          <p:nvPr/>
        </p:nvGrpSpPr>
        <p:grpSpPr>
          <a:xfrm>
            <a:off x="4206960" y="4840200"/>
            <a:ext cx="2554200" cy="2090880"/>
            <a:chOff x="4206960" y="4840200"/>
            <a:chExt cx="2554200" cy="2090880"/>
          </a:xfrm>
        </p:grpSpPr>
        <p:pic>
          <p:nvPicPr>
            <p:cNvPr id="377" name="Flowchart: Process 8" descr=""/>
            <p:cNvPicPr/>
            <p:nvPr/>
          </p:nvPicPr>
          <p:blipFill>
            <a:blip r:embed="rId9"/>
            <a:stretch/>
          </p:blipFill>
          <p:spPr>
            <a:xfrm>
              <a:off x="420696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267080" y="4876920"/>
              <a:ext cx="243864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Flowchart: Process 9"/>
          <p:cNvGrpSpPr/>
          <p:nvPr/>
        </p:nvGrpSpPr>
        <p:grpSpPr>
          <a:xfrm>
            <a:off x="2073240" y="-36360"/>
            <a:ext cx="2554200" cy="1785960"/>
            <a:chOff x="2073240" y="-36360"/>
            <a:chExt cx="2554200" cy="1785960"/>
          </a:xfrm>
        </p:grpSpPr>
        <p:pic>
          <p:nvPicPr>
            <p:cNvPr id="380" name="Flowchart: Process 9" descr=""/>
            <p:cNvPicPr/>
            <p:nvPr/>
          </p:nvPicPr>
          <p:blipFill>
            <a:blip r:embed="rId10"/>
            <a:stretch/>
          </p:blipFill>
          <p:spPr>
            <a:xfrm>
              <a:off x="2073240" y="-3636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3372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Flowchart: Process 10"/>
          <p:cNvGrpSpPr/>
          <p:nvPr/>
        </p:nvGrpSpPr>
        <p:grpSpPr>
          <a:xfrm>
            <a:off x="2073240" y="1566720"/>
            <a:ext cx="2554200" cy="1785960"/>
            <a:chOff x="2073240" y="1566720"/>
            <a:chExt cx="2554200" cy="1785960"/>
          </a:xfrm>
        </p:grpSpPr>
        <p:pic>
          <p:nvPicPr>
            <p:cNvPr id="383" name="Flowchart: Process 10" descr=""/>
            <p:cNvPicPr/>
            <p:nvPr/>
          </p:nvPicPr>
          <p:blipFill>
            <a:blip r:embed="rId11"/>
            <a:stretch/>
          </p:blipFill>
          <p:spPr>
            <a:xfrm>
              <a:off x="2073240" y="1566720"/>
              <a:ext cx="25542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13372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Flowchart: Process 11"/>
          <p:cNvGrpSpPr/>
          <p:nvPr/>
        </p:nvGrpSpPr>
        <p:grpSpPr>
          <a:xfrm>
            <a:off x="2073240" y="3243240"/>
            <a:ext cx="2554200" cy="1706760"/>
            <a:chOff x="2073240" y="3243240"/>
            <a:chExt cx="2554200" cy="1706760"/>
          </a:xfrm>
        </p:grpSpPr>
        <p:pic>
          <p:nvPicPr>
            <p:cNvPr id="386" name="Flowchart: Process 11" descr=""/>
            <p:cNvPicPr/>
            <p:nvPr/>
          </p:nvPicPr>
          <p:blipFill>
            <a:blip r:embed="rId12"/>
            <a:stretch/>
          </p:blipFill>
          <p:spPr>
            <a:xfrm>
              <a:off x="2073240" y="3243240"/>
              <a:ext cx="25542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13372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Flowchart: Process 12"/>
          <p:cNvGrpSpPr/>
          <p:nvPr/>
        </p:nvGrpSpPr>
        <p:grpSpPr>
          <a:xfrm>
            <a:off x="2073240" y="4840200"/>
            <a:ext cx="2554200" cy="2090880"/>
            <a:chOff x="2073240" y="4840200"/>
            <a:chExt cx="2554200" cy="2090880"/>
          </a:xfrm>
        </p:grpSpPr>
        <p:pic>
          <p:nvPicPr>
            <p:cNvPr id="389" name="Flowchart: Process 12" descr=""/>
            <p:cNvPicPr/>
            <p:nvPr/>
          </p:nvPicPr>
          <p:blipFill>
            <a:blip r:embed="rId13"/>
            <a:stretch/>
          </p:blipFill>
          <p:spPr>
            <a:xfrm>
              <a:off x="2073240" y="4840200"/>
              <a:ext cx="25542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13372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Flowchart: Process 13"/>
          <p:cNvGrpSpPr/>
          <p:nvPr/>
        </p:nvGrpSpPr>
        <p:grpSpPr>
          <a:xfrm>
            <a:off x="-60480" y="-36360"/>
            <a:ext cx="2554560" cy="1785960"/>
            <a:chOff x="-60480" y="-36360"/>
            <a:chExt cx="2554560" cy="1785960"/>
          </a:xfrm>
        </p:grpSpPr>
        <p:pic>
          <p:nvPicPr>
            <p:cNvPr id="392" name="Flowchart: Process 13" descr=""/>
            <p:cNvPicPr/>
            <p:nvPr/>
          </p:nvPicPr>
          <p:blipFill>
            <a:blip r:embed="rId14"/>
            <a:stretch/>
          </p:blipFill>
          <p:spPr>
            <a:xfrm>
              <a:off x="-60480" y="-3636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0" y="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Flowchart: Process 14"/>
          <p:cNvGrpSpPr/>
          <p:nvPr/>
        </p:nvGrpSpPr>
        <p:grpSpPr>
          <a:xfrm>
            <a:off x="-60480" y="1566720"/>
            <a:ext cx="2554560" cy="1785960"/>
            <a:chOff x="-60480" y="1566720"/>
            <a:chExt cx="2554560" cy="1785960"/>
          </a:xfrm>
        </p:grpSpPr>
        <p:pic>
          <p:nvPicPr>
            <p:cNvPr id="395" name="Flowchart: Process 14" descr=""/>
            <p:cNvPicPr/>
            <p:nvPr/>
          </p:nvPicPr>
          <p:blipFill>
            <a:blip r:embed="rId15"/>
            <a:stretch/>
          </p:blipFill>
          <p:spPr>
            <a:xfrm>
              <a:off x="-60480" y="1566720"/>
              <a:ext cx="25545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0" y="1600200"/>
              <a:ext cx="24382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Flowchart: Process 15"/>
          <p:cNvGrpSpPr/>
          <p:nvPr/>
        </p:nvGrpSpPr>
        <p:grpSpPr>
          <a:xfrm>
            <a:off x="-60480" y="3243240"/>
            <a:ext cx="2554560" cy="1706760"/>
            <a:chOff x="-60480" y="3243240"/>
            <a:chExt cx="2554560" cy="1706760"/>
          </a:xfrm>
        </p:grpSpPr>
        <p:pic>
          <p:nvPicPr>
            <p:cNvPr id="398" name="Flowchart: Process 15" descr=""/>
            <p:cNvPicPr/>
            <p:nvPr/>
          </p:nvPicPr>
          <p:blipFill>
            <a:blip r:embed="rId16"/>
            <a:stretch/>
          </p:blipFill>
          <p:spPr>
            <a:xfrm>
              <a:off x="-60480" y="3243240"/>
              <a:ext cx="2554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0" y="327672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Flowchart: Process 16"/>
          <p:cNvGrpSpPr/>
          <p:nvPr/>
        </p:nvGrpSpPr>
        <p:grpSpPr>
          <a:xfrm>
            <a:off x="-60480" y="4840200"/>
            <a:ext cx="2554560" cy="2090880"/>
            <a:chOff x="-60480" y="4840200"/>
            <a:chExt cx="2554560" cy="2090880"/>
          </a:xfrm>
        </p:grpSpPr>
        <p:pic>
          <p:nvPicPr>
            <p:cNvPr id="401" name="Flowchart: Process 16" descr=""/>
            <p:cNvPicPr/>
            <p:nvPr/>
          </p:nvPicPr>
          <p:blipFill>
            <a:blip r:embed="rId17"/>
            <a:stretch/>
          </p:blipFill>
          <p:spPr>
            <a:xfrm>
              <a:off x="-60480" y="4840200"/>
              <a:ext cx="255456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0" y="4876920"/>
              <a:ext cx="2438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Bevel 17"/>
          <p:cNvSpPr/>
          <p:nvPr/>
        </p:nvSpPr>
        <p:spPr>
          <a:xfrm>
            <a:off x="6248520" y="5943600"/>
            <a:ext cx="2895480" cy="9144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Rectangle 18" descr=""/>
          <p:cNvPicPr/>
          <p:nvPr/>
        </p:nvPicPr>
        <p:blipFill>
          <a:blip r:embed="rId18"/>
          <a:stretch/>
        </p:blipFill>
        <p:spPr>
          <a:xfrm>
            <a:off x="6022800" y="5711760"/>
            <a:ext cx="329724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9"/>
          <p:cNvSpPr/>
          <p:nvPr/>
        </p:nvSpPr>
        <p:spPr>
          <a:xfrm>
            <a:off x="2211480" y="2362320"/>
            <a:ext cx="486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  <a:ea typeface="宋体"/>
              </a:rPr>
              <a:t>London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6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6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8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9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7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2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43" dur="1230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844" dur="123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84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846" dur="123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84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5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2"/>
          <a:stretch/>
        </p:blipFill>
        <p:spPr>
          <a:xfrm>
            <a:off x="480960" y="1974960"/>
            <a:ext cx="84186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5:57:14Z</dcterms:created>
  <dc:creator>微软用户</dc:creator>
  <dc:description/>
  <dc:language>en-US</dc:language>
  <cp:lastModifiedBy>微软用户</cp:lastModifiedBy>
  <dcterms:modified xsi:type="dcterms:W3CDTF">2011-04-22T16:05:57Z</dcterms:modified>
  <cp:revision>1</cp:revision>
  <dc:subject/>
  <dc:title>Guess the City</dc:title>
</cp:coreProperties>
</file>